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png" ContentType="image/png"/>
  <Override PartName="/ppt/media/image13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977B-0B56-4732-8D7B-898A9645E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FF0E-CD02-492A-8670-B3758BAB5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1F95-5531-4BFF-BC63-7053E837F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8DF0-921F-4C29-AFC8-E515A028D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47F47-AFE8-44FA-94FB-0C69D2CC5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938EB-143A-4611-9182-E3141FC17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A3417-BA75-49B6-844A-343484AB1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B6ADC-5777-4D33-A3FC-711E5D596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B79FF-9175-4B2E-87EA-70B2A8595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417D7-AC7A-4CBC-92B9-B5CA5E407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63F70-71B5-4A0E-800C-BD11B103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D44A-94EE-4F65-A090-BF9EBB3D4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DEA1B-DADD-47B3-867B-B7187BDA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E8847-ADB9-4BCE-9035-23DC32C4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15ECF-DAD2-470C-9864-B551630BB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BE0A1-5E8C-4D8F-A041-528322D74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94A93-1F80-4B94-9A42-92751F599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041A3-BD98-4DD0-AAA8-A7606FB1D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CFEDD-591F-4A8C-86B1-E921A44A8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C8C12-F7C0-4799-BD9E-3933728D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2F1B8-E560-4FFB-87FF-68F1D5C2D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7937E-12DE-4DF0-AB07-B403A204F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1862-8104-4FA8-B4C4-046576A3A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E9A59-264A-4FAF-A295-1CB5E92A1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971B5-9C59-47B7-83C9-C0B576A3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D4508-578B-42D5-9175-1D19D881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5A6C7-B1C8-4087-9F15-00ED5D0C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BF2A6-CAF6-4F4E-BFA5-C19E8DE49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38E0F-B6D8-413B-92F1-F718AD576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CDB32-92C4-49D0-84F2-1D5C841DC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C1AB4-A1EB-4068-86D1-7BE418DE2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A7AE9-61D5-474A-8465-496D3A264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A4D29-5597-40E7-AA88-C41A00CFC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CCC7-8AE6-42F0-B088-CD9CAC208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44CDB-0456-4B57-82C1-3DB46D2A3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B78AA-A67C-493F-80DF-79ACA8A7B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EAF19-2D28-4DDA-8360-D0AE2F4AF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64228-AEF2-4E75-B22D-41A45920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16BC3-B266-457A-920D-E333B3BB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063F4-E936-4395-81CA-26CC7020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9957E-5684-4EA8-A9AF-7E9A56B6D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DB031-BBB7-4815-A30E-AF9331B59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BF8F4-EF8E-4304-80F1-F379DA960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2E68-382F-430A-8357-3648FB346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75C1-6A84-430C-A7C5-C14ECA7FD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544E-078D-4239-A67E-EB467581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4C99-D4BE-4E99-8F41-0BA5EA55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B572-BAA4-4682-9BA5-DBBC37DC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FF2DA-F123-4471-996C-7636CB226112}" type="slidenum">
              <a:rPr b="0" lang="hu-H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86539-47E2-478A-A819-BCD50EA411CA}" type="slidenum">
              <a:rPr b="0" lang="hu-H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DF97B-75E2-4A8E-B7E8-43F6DD3564F4}" type="slidenum">
              <a:rPr b="0" lang="hu-H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2B244-F0B7-4D79-BBC0-2683D6AB2016}" type="slidenum">
              <a:rPr b="0" lang="hu-H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44236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2009-2013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4" descr="ivóvíz"/>
          <p:cNvPicPr/>
          <p:nvPr/>
        </p:nvPicPr>
        <p:blipFill>
          <a:blip r:embed="rId2"/>
          <a:stretch/>
        </p:blipFill>
        <p:spPr>
          <a:xfrm>
            <a:off x="3059280" y="3716280"/>
            <a:ext cx="237636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Arial"/>
              </a:rPr>
              <a:t>Hogyan történik a tisztítás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kutakból érkező nyersvízhez (max. 36 m3/h) előszö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nátriumhipokloritot, ezt követőe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kálium-permanganátot (KMnO4) majd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vaskloridot adagolunk, és a kevert, vegyszerezett kútvize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kvarchomok töltetű szűrőkre vezetjük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klór hatására a kútvizekben lévő természetes vastartalom nagy része, és az adagolt vaskloridból képződő vashidroxid pelyhek formájában kicsapódik, melyek </a:t>
            </a:r>
            <a:r>
              <a:rPr b="0" lang="hu-HU" sz="2600" spc="-1" strike="noStrike">
                <a:solidFill>
                  <a:srgbClr val="009dd9"/>
                </a:solidFill>
                <a:latin typeface="Constantia"/>
              </a:rPr>
              <a:t>adszorbeálják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 a kútvíz arzéntartalmá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Hol tartunk most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68360" y="17730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2011.október 28. II. forduló támogatási szerződésének aláírása 228.492.000.-Ft a támogatás mértéke (90%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2012. december 7. önerő pályázat aláírása 25.388.000.-Ft (10%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100%-os uniós és állami támogatást nyertün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Lefelé nyíl 3"/>
          <p:cNvSpPr/>
          <p:nvPr/>
        </p:nvSpPr>
        <p:spPr>
          <a:xfrm>
            <a:off x="4067280" y="4076640"/>
            <a:ext cx="576000" cy="504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Hol tartunk most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9528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000000"/>
                </a:solidFill>
                <a:uFillTx/>
                <a:latin typeface="Constantia"/>
              </a:rPr>
              <a:t>Közbeszerzési eljárások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nstantia"/>
              </a:rPr>
              <a:t>Műszaki ellenőr kiválasztása: eredményesen lezárul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nstantia"/>
              </a:rPr>
              <a:t>Ép-Kert Mérnökiroda Kf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nstantia"/>
              </a:rPr>
              <a:t>(2314 Halásztelek, Katona J.u.45.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nstantia"/>
              </a:rPr>
              <a:t>Projekt menedzsment kiválasztása: eredményesen lezárul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onstantia"/>
              </a:rPr>
              <a:t>Tomel Kft. (3300 Eger, Pacsirta u.9.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nstantia"/>
              </a:rPr>
              <a:t>Kivitelezés: eredményesen lezárul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onstantia"/>
              </a:rPr>
              <a:t>SADE-Magyarország Mélyépítő Kf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onstantia"/>
              </a:rPr>
              <a:t>(1117 Budapest, Budafoki út 72-74.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nstantia"/>
              </a:rPr>
              <a:t>PR tevékenység: 2012. július 24-én bírála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nstantia"/>
              </a:rPr>
              <a:t>Beruházás kivitelezésének várható megkezdése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nstantia"/>
              </a:rPr>
              <a:t>A kiviteli tervek elkészítését követően a közeljövőbe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Lefelé nyíl 3"/>
          <p:cNvSpPr/>
          <p:nvPr/>
        </p:nvSpPr>
        <p:spPr>
          <a:xfrm>
            <a:off x="4211640" y="4941720"/>
            <a:ext cx="431640" cy="43200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4617b"/>
                </a:solidFill>
                <a:latin typeface="Calibri"/>
              </a:rPr>
              <a:t>Megfelelő mennyiségű lesz-e a víz?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5000"/>
            <a:ext cx="8229600" cy="27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onstantia"/>
              </a:rPr>
              <a:t>A vízkezelő rendszer naponta legalább 800 m3 egészséges ivóvizet tud adni, kétoldali vízbetáplálással. Ez azt jelenti, hogy a szükséges ivóvízmennyiség egy részét községünk egyik oldalán, a Kossuth Lajos utcában lévő vízműből tervezzük az ivóvízhálózatba juttatni, a kezelt víz másik részét pedig a vízműből közvetlenül a község túlsó oldalán fekvő üdülőterület ivóvízhálózatába tervezzük juttatni, egy erre a célra tervezett nyomóvezeték megépítésével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4" name="Picture 2" descr="http://t3.gstatic.com/images?q=tbn:ANd9GcSX3cgu2nQI7ZwQ6ElF9zwQA8gwLg0yDL9gBQy-vvHtMnOrswJ8-KqoUBprxQ"/>
          <p:cNvPicPr/>
          <p:nvPr/>
        </p:nvPicPr>
        <p:blipFill>
          <a:blip r:embed="rId1"/>
          <a:stretch/>
        </p:blipFill>
        <p:spPr>
          <a:xfrm>
            <a:off x="6012000" y="4653000"/>
            <a:ext cx="1873080" cy="17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Content Placeholder 2" descr=""/>
          <p:cNvPicPr/>
          <p:nvPr/>
        </p:nvPicPr>
        <p:blipFill>
          <a:blip r:embed="rId1"/>
          <a:stretch/>
        </p:blipFill>
        <p:spPr>
          <a:xfrm>
            <a:off x="274680" y="1932120"/>
            <a:ext cx="841860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Nem babra megy a játé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9" name="Content Placeholder 3" descr="arzéncikkrövid1.png"/>
          <p:cNvPicPr/>
          <p:nvPr/>
        </p:nvPicPr>
        <p:blipFill>
          <a:blip r:embed="rId1"/>
          <a:stretch/>
        </p:blipFill>
        <p:spPr>
          <a:xfrm>
            <a:off x="1814400" y="2119320"/>
            <a:ext cx="5472360" cy="39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Országos helyzetkép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1" name="Content Placeholder 4" descr="arzénmagyaron.png"/>
          <p:cNvPicPr/>
          <p:nvPr/>
        </p:nvPicPr>
        <p:blipFill>
          <a:blip r:embed="rId1"/>
          <a:stretch/>
        </p:blipFill>
        <p:spPr>
          <a:xfrm>
            <a:off x="2097000" y="1935000"/>
            <a:ext cx="49500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Mekkora a baj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3" name="Content Placeholder 3" descr="arzén2.png"/>
          <p:cNvPicPr/>
          <p:nvPr/>
        </p:nvPicPr>
        <p:blipFill>
          <a:blip r:embed="rId1"/>
          <a:stretch/>
        </p:blipFill>
        <p:spPr>
          <a:xfrm>
            <a:off x="2238480" y="1935000"/>
            <a:ext cx="46670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Mi lesz itt?! (és mennyiért?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b5395"/>
                </a:solidFill>
                <a:latin typeface="Constantia"/>
              </a:rPr>
              <a:t>1.) A vízkezelő berendezések és a nyomásfokozó szivattyú blokk gépészeti munkáinak beruházási költsége: </a:t>
            </a:r>
            <a:r>
              <a:rPr b="0" lang="hu-HU" sz="2400" spc="-1" strike="noStrike">
                <a:solidFill>
                  <a:srgbClr val="0b5395"/>
                </a:solidFill>
                <a:latin typeface="Constantia"/>
              </a:rPr>
              <a:t>	</a:t>
            </a:r>
            <a:r>
              <a:rPr b="0" lang="hu-HU" sz="2400" spc="-1" strike="noStrike">
                <a:solidFill>
                  <a:srgbClr val="0b5395"/>
                </a:solidFill>
                <a:latin typeface="Constantia"/>
              </a:rPr>
              <a:t>	</a:t>
            </a:r>
            <a:r>
              <a:rPr b="0" lang="hu-HU" sz="2400" spc="-1" strike="noStrike">
                <a:solidFill>
                  <a:srgbClr val="0b5395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b5395"/>
                </a:solidFill>
                <a:latin typeface="Constantia"/>
              </a:rPr>
              <a:t>82.240.000 Ft + 27 % ÁFA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Constantia"/>
              </a:rPr>
              <a:t>Vas(mangán)talanító, arzénmentesítő szűrő berendezés 4 db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Constantia"/>
              </a:rPr>
              <a:t>Vegyszeradagoló berendezés 6 egység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Constantia"/>
              </a:rPr>
              <a:t>Hálózati szivattyú 3 db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Constantia"/>
              </a:rPr>
              <a:t>Dekantáltvíz átemelő szivattyú 2 db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Constantia"/>
              </a:rPr>
              <a:t>Elektromos működtetés, automatika berendezései.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Constantia"/>
              </a:rPr>
              <a:t>Helyszínre szállítással, szereléssel, fertőtlenítéssel, beüzemeléssel, próbaüzemeltetéssel,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Constantia"/>
              </a:rPr>
              <a:t>Kiviteli és Megvalósulási Tervdokumentáció, valamint Kezelési-Karbantartási Utasítás készítésével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Mi lesz itt? (és mennyiért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b5395"/>
                </a:solidFill>
                <a:latin typeface="Constantia"/>
              </a:rPr>
              <a:t>2.) Vízkezelő létesítményeinek beruházási építési költsége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b5395"/>
                </a:solidFill>
                <a:latin typeface="Constantia"/>
              </a:rPr>
              <a:t>94.940.000 Ft + 27 % ÁFA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nstantia"/>
              </a:rPr>
              <a:t>Vízkezelő gépház beépített alapterület 90 m2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nstantia"/>
              </a:rPr>
              <a:t>Kezeltvíz tározó 2 db 100 m3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nstantia"/>
              </a:rPr>
              <a:t>Vasiszap ülepítő 32 m3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nstantia"/>
              </a:rPr>
              <a:t>Akna 1 db 6 m3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nstantia"/>
              </a:rPr>
              <a:t>Udvartéri csővezetékek NÁ 200, 125 és NÁ 50 mm (földárokban fektetve) 180 f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nstantia"/>
              </a:rPr>
              <a:t>Beton járda és út 400 m2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nstantia"/>
              </a:rPr>
              <a:t>250 m3-es térszíni tározó külső-belső felújítás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nstantia"/>
              </a:rPr>
              <a:t>Üzemviteli épület teljes felújítása 70 m2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nstantia"/>
              </a:rPr>
              <a:t>1. és 2. számú kutak vizsgálata és szükség szerinti javítás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Mi lesz itt? (és mennyiért?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83763"/>
                </a:solidFill>
                <a:latin typeface="Constantia"/>
              </a:rPr>
              <a:t>Vízkezelő gépészetének és létesítményeinek beruházási költsége összesen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83763"/>
                </a:solidFill>
                <a:latin typeface="Constantia"/>
              </a:rPr>
              <a:t>177.180.000 Ft + 27 % ÁF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Mi lesz itt?! (és mennyiért?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b5395"/>
                </a:solidFill>
                <a:latin typeface="Constantia"/>
              </a:rPr>
              <a:t>3.) Ivóvízhálózat nyomóvezetékének (2000 fm) beruházási költsége: 44.000.000 Ft + 27 % ÁF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b5395"/>
                </a:solidFill>
                <a:latin typeface="Constantia"/>
              </a:rPr>
              <a:t>4.) Tervezés költsége: 3.000.000 Ft + 27 % ÁF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b5395"/>
                </a:solidFill>
                <a:latin typeface="Constantia"/>
              </a:rPr>
              <a:t>5.) Próbaüzem költsége: 7.000.000 Ft + 27 % ÁF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b5395"/>
                </a:solidFill>
                <a:latin typeface="Constantia"/>
              </a:rPr>
              <a:t>6.) Egyéb, járulékos ktg-ek: 22.700.000 Ft + 25% ÁF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Mi lesz itt? (és mennyiért?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3" name="Content Placeholder 2" descr=""/>
          <p:cNvPicPr/>
          <p:nvPr/>
        </p:nvPicPr>
        <p:blipFill>
          <a:blip r:embed="rId1"/>
          <a:stretch/>
        </p:blipFill>
        <p:spPr>
          <a:xfrm>
            <a:off x="291960" y="1932120"/>
            <a:ext cx="840132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19:24:27Z</dcterms:created>
  <dc:creator>Angie2001</dc:creator>
  <dc:description/>
  <dc:language>en-US</dc:language>
  <cp:lastModifiedBy>Dr. Molnár Zsuzsanna</cp:lastModifiedBy>
  <dcterms:modified xsi:type="dcterms:W3CDTF">2012-07-18T15:33:53Z</dcterms:modified>
  <cp:revision>27</cp:revision>
  <dc:subject/>
  <dc:title>Slide 1</dc:title>
</cp:coreProperties>
</file>